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033720" y="8780400"/>
            <a:ext cx="8719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3C85A59-6D93-453C-B31F-984AF353AC81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74680" y="700200"/>
            <a:ext cx="458784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92240" y="4433400"/>
            <a:ext cx="4664160" cy="4148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108080" y="4552920"/>
            <a:ext cx="4595760" cy="3589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 aware of risks and the investment that you are mak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08080" y="4552920"/>
            <a:ext cx="4595760" cy="3589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 aware of risks and the investment that you are mak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77D8E1CA-492E-44AD-900C-58988DB71F3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798C7C03-278F-495F-BA16-73C12107DE41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966960" y="1893960"/>
            <a:ext cx="77515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Module 7: Introducing and Sustaining the TSP 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llocate Resourc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ment takes work. Trained and qualified professionals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ch the courses, coach the teams, draft policies, and provide guidance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help in solving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 the transition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, evaluate, and report on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nsition team must have sufficient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coaching-staff target of 2% to 3% of the professional popul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tivate Particip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66960" y="1669680"/>
            <a:ext cx="7316640" cy="4597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ers are reluctant to participate in experimental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mphasize that management has selected the TSP as a new direction for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ess the opportunitie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TSP experience for the entire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benchmark for future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 a new and exciting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valuable skills and knowled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ing Pilot Proj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66960" y="1706040"/>
            <a:ext cx="7316640" cy="4597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ick 3 to 5 medium- to large-sized pilo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 to 15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 to 18 month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-intensive new development or enhanc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resentative of the organization’s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ortant pro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teams with members and managers who are willing to particip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the group relationshi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ract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ational boundari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nal confli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ploying TSP</a:t>
            </a:r>
            <a:br>
              <a:rPr sz="3600"/>
            </a:b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360" y="1709640"/>
            <a:ext cx="36320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SP is introduced into an organization on a project-by-project or team-by-team basis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SP is more than a training program, the new skills must be used in a team setting soon after training ends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reat the deployment like a project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Set goal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ssign responsibiliti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llocate resourc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Involve line management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Plan and track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773600" y="1612800"/>
          <a:ext cx="4151160" cy="4488120"/>
        </p:xfrm>
        <a:graphic>
          <a:graphicData uri="http://schemas.openxmlformats.org/drawingml/2006/table">
            <a:tbl>
              <a:tblPr/>
              <a:tblGrid>
                <a:gridCol w="380880"/>
                <a:gridCol w="3770280"/>
              </a:tblGrid>
              <a:tr h="3366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61800" indent="-361800" algn="ctr"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61800" indent="-361800"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TSP Introduction Steps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tart by identifying external or internal resources to lead the effort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f internal resources are selected, send them to SEI training to become authorized instructors and coache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rain top management, then select two or three initial projects or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rain the selected teams and their managers then launch the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onitor the projects and make adjustments as needed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xpand the scope, selecting additional projects or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reate or expand the pool of available SEI-authorized instructors and/or coache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Repeat starting at step 4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ining Participants</a:t>
            </a:r>
            <a:br>
              <a:rPr sz="3600"/>
            </a:b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1400040"/>
          <a:ext cx="8454960" cy="5097600"/>
        </p:xfrm>
        <a:graphic>
          <a:graphicData uri="http://schemas.openxmlformats.org/drawingml/2006/table">
            <a:tbl>
              <a:tblPr/>
              <a:tblGrid>
                <a:gridCol w="1841400"/>
                <a:gridCol w="2770200"/>
                <a:gridCol w="3843360"/>
              </a:tblGrid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Participan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Course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Note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</a:tr>
              <a:tr h="45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xecutives and senior managemen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Executive Strategy Seminar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day + optional ½ day strategic planning session.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iddle and first-line manag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eading Development Team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5296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oftware develop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Advanced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(optional)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95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Alternative to </a:t>
                      </a:r>
                      <a:r>
                        <a:rPr b="0" i="1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 </a:t>
                      </a:r>
                      <a:r>
                        <a:rPr b="0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 Advanced)</a:t>
                      </a:r>
                      <a:endParaRPr b="0" lang="en-US" sz="1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27504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Other team memb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troduction to Personal Proces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67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Team Member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Alternative to Introduction to Personal Process)</a:t>
                      </a:r>
                      <a:endParaRPr b="0" lang="en-US" sz="1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structo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nstructor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e-requisite training: </a:t>
                      </a: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 and PSP Advanced or PSP I and 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ache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Coach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e-requisite training: </a:t>
                      </a: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 and PSP Advanced or PSP I and 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ale-Up Approa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roader TSP introduction should repeat the pilot project steps across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each location’s goals and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project by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an experience b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managers and executives fir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develop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projects with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eat each new introduction as a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SP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resul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just plans and methods as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Scale-Up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a scale-up leadership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rai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required skills, disciplines, and constituenc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ore of full-time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a TSP launch of the scale-up eff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members pres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participate in opening and closing meeting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 and review like an engineering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staining the TSP -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sustain long-term TSP transition, incorporate the TSP transition goals into the organization’s business syst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ard and recognition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alary and promotion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reer plan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nus criteri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potential management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SP success is recognized as a ticket to personal advancement, sustained improvement will be assu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staining the TSP -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04400" y="1714320"/>
            <a:ext cx="7410600" cy="45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with any disciplined activity, the TSP needs continuing reinforcement from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regular quarterly management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project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key process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nd review benchmark comparis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, recognize, and reward superior individual, team, and managemen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intain Continuing Oversigh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goals, responsibilities, and resources are essential, they are not enough to sustain a major behavior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senior management appears to lose interest in the TSP transition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ess will be slo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ffort will not succ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take all of these steps and show continuing interest, TSP transition will be rapid and effec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key to TSP introduction is management priority and sup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nsition will be rapid and effective if you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and track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clear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 adequate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monitor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and reward superior perform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introduction: overvie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ing the pilot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’s role in introduc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ing the coaching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staining continuous improv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Introduction: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strategic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 the transition champ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itiate 3 to 5 pilot TSP pro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 a scale-up capabi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stain continuous improv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trategic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rt te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pilot projec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a baseline for measuring improvemen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n initial milestone time-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initial business benefi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initial PSP/TSP staffing, training, qualification, and certification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ng te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 long-term milestone time-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long-term PSP/TSP staffing, training, qualification, and certification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long-term business benefi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ablish Success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success look lik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truly successful outcome.  Be specifi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cent defect fre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rvice and support cost improv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er satisfaction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ycle time acceler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- - -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ublish these goals and consider them in reviews and evalu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volve Line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 involve line management in objective set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nsition team can only initiate and support process changes but cannot make them happe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nly people who can change the behavior of development groups are the group’s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rollout, ask the line managers for transition status repo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 transition goals in line-management measurements and evalu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nsition Champ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oint a transition champion:  Without one, little will get do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champion is responsible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ing the transition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gotiating this plan with the product manag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ing the plan with senior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ing and guiding the transition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ing the dedicated transition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ing the Pilot Progr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three to five TSP prototype project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cate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plans to meet the prototype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the pilot TSP teams and their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the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 and evaluate and review the resul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needed adjus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first TSP pilot projects to build experienced coaching and transition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06:32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8:00Z</dcterms:modified>
  <cp:revision>49</cp:revision>
  <dc:subject>24 July 2001 / 3:30pm</dc:subject>
  <dc:title>PowerPoint Presentation</dc:title>
</cp:coreProperties>
</file>